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81E5-E488-4E2B-B53A-E7B3C8EB9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lady of perpetual hel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xy InterMine, Bio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well funded, well-run and popular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our users a service by getting better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increase appeal, visibility of GM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ghborhood: I'll be working with TableEdit anyway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'll be churning through e-mails from mailing lists for next bit of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1842-6A79-4592-99A1-CE4F8C4E1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BFE8-1675-419A-AAEE-D3FCCE7B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7CDD-9778-4E87-BBA6-65401FDB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17A7-B4F2-4154-ADBA-4BF4115F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68CA-F166-44D5-91C0-E0D774A7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3C8A-0DB7-420E-8F10-F4406DC7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F07E-C29C-46EB-9374-C3938C2E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8FE7-FC15-4E1F-AB27-36537FB6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1426-1B44-4C04-905D-3BF73EB8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941E-A254-4BFA-B7D3-9F6AB604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FE46-6BA0-4801-8F7D-F5D9148E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8044-47F6-4A49-BDAB-C1A227C6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C086-91EF-4829-B282-876A82A0E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01000" y="5829480"/>
            <a:ext cx="114300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73836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42120" y="2133720"/>
            <a:ext cx="3016080" cy="3733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667960" y="380880"/>
            <a:ext cx="383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MOD Help De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 C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0880" y="2103480"/>
            <a:ext cx="441972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laxy, InterMine, BioM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k tighter integration with rest of GM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- will integrate with GMOD web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be key to (non-sequence) 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Diversity Chado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it integrated, documented and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gle 2009 Summer of Co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OD Logo Serv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ucation &amp; Outr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Summer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OD Course in Europ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torial at Plant and Animal Genomic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ropod Ge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l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o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arly promo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tive Ge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nts, Reviews &amp; 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now offer to review grants that propose using GM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 grant writers to include funding for GM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 general project or specific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increase stability of G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hould I be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8160" y="342900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m I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 Gilbert is doing a review of my first year in August and Septe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contact him if you any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0800" y="1752480"/>
            <a:ext cx="370404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ave C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MOD Help De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15 Pacific H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ational Evolutionary Synthesis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lements@nescent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lp@gmod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gmod.org/GMOD_Help_De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nescent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248520" y="4387680"/>
            <a:ext cx="182880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00200" y="3505320"/>
            <a:ext cx="7162920" cy="2438280"/>
          </a:xfrm>
          <a:prstGeom prst="rect">
            <a:avLst/>
          </a:prstGeom>
          <a:solidFill>
            <a:srgbClr val="fb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2590920"/>
            <a:ext cx="7162920" cy="838080"/>
          </a:xfrm>
          <a:prstGeom prst="rect">
            <a:avLst/>
          </a:prstGeom>
          <a:solidFill>
            <a:srgbClr val="ccf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838080"/>
            <a:ext cx="7162920" cy="1676520"/>
          </a:xfrm>
          <a:prstGeom prst="rect">
            <a:avLst/>
          </a:prstGeom>
          <a:solidFill>
            <a:srgbClr val="cff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-7668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MOD @ Arthropod Genomics Sympo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7806600" y="149832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8174520" y="281268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78000" y="990720"/>
            <a:ext cx="4527720" cy="4876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732040" y="838080"/>
            <a:ext cx="56548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ursday 7-9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Contributions to Genome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Elsik, Christopher Childers, Darren H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20920" y="1668600"/>
            <a:ext cx="60678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iday 7:30-9:30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do Databases and Integration with GMO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t Cain, Dave C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93080" y="2590920"/>
            <a:ext cx="57996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iday 11:25-11:45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ocated arthropod genes and ways to find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 Gilb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8021520" y="44236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67680" y="3505320"/>
            <a:ext cx="4730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iday 5-6:30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parative annotation of Drosophilid dicistronic g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62080" y="4041720"/>
            <a:ext cx="634068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urday 10-11:30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plete System For Community Genome Anno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OD: Database Resources for Emerging Model Organi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ative genomics and database construction for Lepidopt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located Arthropod genes, and ways to find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ctorBase: A genome resource for arthropod vectors of human pathog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VectorBase Manual and Community Annotation Submission pip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terflyBase: A framework for comparative genomics in butterflies and mo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6019920"/>
            <a:ext cx="3429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gmod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Got dat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92240" y="5791320"/>
            <a:ext cx="1255680" cy="923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3960" y="762120"/>
            <a:ext cx="134064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Fle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tle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y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id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terfly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conius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npAnnot-L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hundreds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gat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pres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ce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MOD Help De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've been d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'm planning on d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I be d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m I d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've been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gs/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ged every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it easy to tag pages, lookup pages by 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s for new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ssary, GMOD and Database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Por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s, Calendar, Recent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your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've been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ome Informatics, IGERT EvoDevo, Arthropod Genomics, Genetics of Behavior, IS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pidoptera and ArthropodBase; U Ore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 Workshop with Scott @ Arthropod Ge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35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MOD Summer School with Scott, Ed, B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students for 2 1/2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R, Phe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1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752480" y="0"/>
            <a:ext cx="1371600" cy="100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666520" y="2286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@ ISMB &amp; BOSC 200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82224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http://gmod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1119240"/>
          <a:ext cx="9144000" cy="5745240"/>
        </p:xfrm>
        <a:graphic>
          <a:graphicData uri="http://schemas.openxmlformats.org/drawingml/2006/table">
            <a:tbl>
              <a:tblPr/>
              <a:tblGrid>
                <a:gridCol w="3809880"/>
                <a:gridCol w="457200"/>
                <a:gridCol w="4419720"/>
                <a:gridCol w="457200"/>
              </a:tblGrid>
              <a:tr h="284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mine - Open source Da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ehouse and Query Interfac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hard Smith, Fri 11:10-11: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gatis: A Web-based Bioinformatic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peline Management and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borative Development  Syste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hua Orvis, Sat 9:30-9: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llo: a Sequence Annotation Edi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 Lee, Sat 11:50-12: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RACE - BioMart Developments and Fu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ed Haider, Sat 1:50-2: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493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e0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BRACE - Enabling Data Integ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ed Haider, Sun 2:15-2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mine - Open source Data Warehouse and Query Inter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chard Smith, Mon 12:15-12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hway Tools Software: Regulatory Networks and Recent Development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ter Karp, Mon 3:15-3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laxy Workflows: Enabling Complex Compu-tational Analysis For Experimental Biologi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mes Taylor, Tue 3:15-3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GALAXY To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on Nekrutenko, Tue 3:45-4: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6a5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f7a6c"/>
                    </a:solidFill>
                  </a:tcPr>
                </a:tc>
              </a:tr>
              <a:tr h="289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Genome Grid for Finding new Bug Ge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omplete System for Community Genome  Anno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OD: Managing genomic data from emerging model organis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laxy workflows for reproducible analyses of next-generation sequencing data, Anton Nekruten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genomic Analysis with Galaxy: Windshield Genomics and Beyo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BRACE – Enabling Data Integ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e99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6c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dimensional annotation of the Escherichia coli K-12 gen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wards Data Analysis of Genome Wide Influenza RNAi Sc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informatics to support the sequencing of Brassica rapa chromosomes A2 and A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 co-variation among rates of differ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s of mut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s for database interoperability: a re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the CASIMIR consort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8c1a"/>
                    </a:solidFill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 rot="5400000">
            <a:off x="2583000" y="2369520"/>
            <a:ext cx="2833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SC Ta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7480080" y="5244840"/>
            <a:ext cx="287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ers using GM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2627640" y="5174640"/>
            <a:ext cx="284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ers about GM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696080" y="54000"/>
            <a:ext cx="1371600" cy="981000"/>
          </a:xfrm>
          <a:prstGeom prst="rect">
            <a:avLst/>
          </a:prstGeom>
          <a:ln w="8892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 rot="5400000">
            <a:off x="7657920" y="22478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MB Ta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'm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MOD User Dire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Table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user has a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omponent lists users of that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user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riven by data on each user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new users an idea of who is doing something 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'll be in the neighbor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ence Lo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't possibly describe or maintain HOWTOs for all OS/software comb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organization for including, encouraging and tagging user experience 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ew already on the web s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aintenance involved with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catalog as we try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 doc re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ing Chado Cookbook / Best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e gmod-schema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user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Browse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Browse 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Browse Cookboo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Annotation Server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a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casts for sophisticated user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rowse, Apollo, C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wiki up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sear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k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03:41:01Z</dcterms:created>
  <dc:creator>GMOD / NESCent</dc:creator>
  <dc:description/>
  <dc:language>en-US</dc:language>
  <cp:lastModifiedBy>GMOD / NESCent</cp:lastModifiedBy>
  <dcterms:modified xsi:type="dcterms:W3CDTF">2008-07-16T17:14:30Z</dcterms:modified>
  <cp:revision>16</cp:revision>
  <dc:subject/>
  <dc:title>PowerPoint Presentation</dc:title>
</cp:coreProperties>
</file>